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日本語学習を含んだ文化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　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5-6 Video Clip JAN-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0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4EFC-6D80-4A21-837F-8B8A50FF8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日本語学習を含んだ文化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　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5-6 Video Clip JAN-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日本語学習を含んだ文化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　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5-6 Video Clip JAN-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BA65-8C1E-4387-BA5E-898F180A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DD5-A3D7-4543-8246-A5409227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EF1-DC8B-4C61-A663-4858BF13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23A-71C3-46FC-947D-87B36D2A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93CF-79D7-4F21-B3A0-049A111A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F5A-CB92-450E-8B0A-3E1F9626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B37-AC80-44E2-A4A6-96BB9CEA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0040-EA6E-43B0-8CFD-827698F2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4B99-8A5A-4144-A13C-87CF2B6C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B61-505F-446C-B9F6-419F4F1F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DF5-1443-4BE2-9DF8-15F09C85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5F2-AF2E-40E9-B34F-BB71037A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A43E-1D6C-41DC-AF99-F0BE7CC52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t’s play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Janke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ium00356"/>
          <p:cNvPicPr/>
          <p:nvPr/>
        </p:nvPicPr>
        <p:blipFill>
          <a:blip r:embed="rId1"/>
          <a:stretch/>
        </p:blipFill>
        <p:spPr>
          <a:xfrm>
            <a:off x="3132000" y="3716280"/>
            <a:ext cx="24004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play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Jan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game of ‘rock-paper-scissors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called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an k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in Japan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1514520" cy="178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1547640" y="4508640"/>
            <a:ext cx="1743120" cy="204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3708360" y="2349360"/>
            <a:ext cx="1709640" cy="172404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7"/>
          <p:cNvGrpSpPr/>
          <p:nvPr/>
        </p:nvGrpSpPr>
        <p:grpSpPr>
          <a:xfrm>
            <a:off x="2050920" y="3464640"/>
            <a:ext cx="1613880" cy="1296720"/>
            <a:chOff x="2050920" y="3464640"/>
            <a:chExt cx="1613880" cy="1296720"/>
          </a:xfrm>
        </p:grpSpPr>
        <p:sp>
          <p:nvSpPr>
            <p:cNvPr id="57" name="AutoShape 8"/>
            <p:cNvSpPr/>
            <p:nvPr/>
          </p:nvSpPr>
          <p:spPr>
            <a:xfrm rot="2113800">
              <a:off x="2700000" y="3573000"/>
              <a:ext cx="719280" cy="1079640"/>
            </a:xfrm>
            <a:prstGeom prst="upArrow">
              <a:avLst>
                <a:gd name="adj1" fmla="val 50000"/>
                <a:gd name="adj2" fmla="val 3752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"/>
            <p:cNvSpPr/>
            <p:nvPr/>
          </p:nvSpPr>
          <p:spPr>
            <a:xfrm>
              <a:off x="2050920" y="350028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"/>
          <p:cNvGrpSpPr/>
          <p:nvPr/>
        </p:nvGrpSpPr>
        <p:grpSpPr>
          <a:xfrm>
            <a:off x="5173920" y="3489840"/>
            <a:ext cx="1558800" cy="1319400"/>
            <a:chOff x="5173920" y="3489840"/>
            <a:chExt cx="1558800" cy="1319400"/>
          </a:xfrm>
        </p:grpSpPr>
        <p:sp>
          <p:nvSpPr>
            <p:cNvPr id="60" name="AutoShape 11"/>
            <p:cNvSpPr/>
            <p:nvPr/>
          </p:nvSpPr>
          <p:spPr>
            <a:xfrm rot="19620000">
              <a:off x="5435280" y="3573000"/>
              <a:ext cx="647640" cy="1152720"/>
            </a:xfrm>
            <a:prstGeom prst="downArrow">
              <a:avLst>
                <a:gd name="adj1" fmla="val 50000"/>
                <a:gd name="adj2" fmla="val 4449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2"/>
            <p:cNvSpPr/>
            <p:nvPr/>
          </p:nvSpPr>
          <p:spPr>
            <a:xfrm>
              <a:off x="6012000" y="3500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3"/>
          <p:cNvGrpSpPr/>
          <p:nvPr/>
        </p:nvGrpSpPr>
        <p:grpSpPr>
          <a:xfrm>
            <a:off x="3564000" y="5445000"/>
            <a:ext cx="1439640" cy="865440"/>
            <a:chOff x="3564000" y="5445000"/>
            <a:chExt cx="1439640" cy="865440"/>
          </a:xfrm>
        </p:grpSpPr>
        <p:sp>
          <p:nvSpPr>
            <p:cNvPr id="63" name="AutoShape 14"/>
            <p:cNvSpPr/>
            <p:nvPr/>
          </p:nvSpPr>
          <p:spPr>
            <a:xfrm>
              <a:off x="3564000" y="5589720"/>
              <a:ext cx="1439640" cy="720720"/>
            </a:xfrm>
            <a:prstGeom prst="leftArrow">
              <a:avLst>
                <a:gd name="adj1" fmla="val 50000"/>
                <a:gd name="adj2" fmla="val 4993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5"/>
            <p:cNvSpPr/>
            <p:nvPr/>
          </p:nvSpPr>
          <p:spPr>
            <a:xfrm>
              <a:off x="4356000" y="5445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watch the vide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JanKenArms.MPG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5940360" y="630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click the pi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11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ly, you can show this website to explain how to pla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ank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‘Erin’s Challenge! I Can Speak Japanese.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B. This instruction includes the game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tchi muite ho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www.erin.ne.jp/en/lesson07/letstry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1:57:57Z</dcterms:created>
  <dc:creator>h.tanaka</dc:creator>
  <dc:description/>
  <dc:language>en-US</dc:language>
  <cp:lastModifiedBy>Hiroko Tanaka</cp:lastModifiedBy>
  <cp:lastPrinted>2014-03-07T16:25:31Z</cp:lastPrinted>
  <dcterms:modified xsi:type="dcterms:W3CDTF">2014-03-07T16:26:16Z</dcterms:modified>
  <cp:revision>10</cp:revision>
  <dc:subject/>
  <dc:title>Let’s play Janken !</dc:title>
</cp:coreProperties>
</file>